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46576"/>
        <c:axId val="22596235"/>
      </c:barChart>
      <c:catAx>
        <c:axId val="37846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96235"/>
        <c:crosses val="autoZero"/>
        <c:auto val="1"/>
        <c:lblAlgn val="ctr"/>
        <c:lblOffset val="100"/>
        <c:noMultiLvlLbl val="0"/>
      </c:catAx>
      <c:valAx>
        <c:axId val="22596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46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A40-CBED-47AB-A360-E40CE174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762-960B-4D87-9997-8D90A9E5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4BE-4F71-4D69-BB36-DC338D13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B4C-E1EE-4E60-AEF7-FF672478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CE5-47F5-404F-8574-41D661CC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CBD-27E3-4890-BEB8-55EC653A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684-FE5D-4E6E-8404-519AF5E9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6F6-7A4D-4219-8208-96F49E05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7053-52A5-404D-8D00-076C1F7E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AE1-DF51-48B0-94F6-3338907D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FF5-E663-4097-9D5E-F2F1DD81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D8C-681A-4CFF-AE6E-093B5A9E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C1A82-A81E-4AD4-8CD3-475F41A1AC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