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65965"/>
        <c:axId val="21699524"/>
      </c:barChart>
      <c:catAx>
        <c:axId val="64365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99524"/>
        <c:crosses val="autoZero"/>
        <c:auto val="1"/>
        <c:lblAlgn val="ctr"/>
        <c:lblOffset val="100"/>
        <c:noMultiLvlLbl val="0"/>
      </c:catAx>
      <c:valAx>
        <c:axId val="21699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65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EFE-7781-448B-B79A-0341F557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C10-C2F2-4688-B0D8-050EBB22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724-D185-4BBA-AFA4-89D43333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2AB-41F9-4FCC-94B5-C9ED3464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E78-B9D0-42E5-89E1-AAA1EAE5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868-7BC6-44A3-905D-6AAB0A6E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9C6-1350-44D0-93E1-831D2BB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1AC-3CFC-4620-965D-C61DCADE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C58-FB9B-4AB7-AA09-C519D938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5BF-8BC9-447B-829E-9BF80C78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5C0-E67F-41A8-B9DC-DDA7E2C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F96-099C-49B5-8521-333438AB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305B7-19A2-47A5-A6FD-5C57C8410B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