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47382"/>
        <c:axId val="27374620"/>
      </c:barChart>
      <c:catAx>
        <c:axId val="51647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74620"/>
        <c:crosses val="autoZero"/>
        <c:auto val="1"/>
        <c:lblAlgn val="ctr"/>
        <c:lblOffset val="100"/>
        <c:noMultiLvlLbl val="0"/>
      </c:catAx>
      <c:valAx>
        <c:axId val="27374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47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3B5-6E80-4A7F-9EB8-A83E9027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05C-8669-4782-AE7F-60E1C8C2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99D-F2C7-4B73-8DE0-A7E9D2EC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F85B-908A-4C17-8760-EBF062AE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1B2-F3CC-486E-A638-58DDE78B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8BD-F91C-4CB9-9BDF-768045F5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0B7-42E4-4889-A4F8-1EF865C9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10A-CFF5-463C-9191-5F7B4C94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319-4E72-4DC1-BB8C-EBEF8CF7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18FC-BA8F-4652-8EC7-655683DE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B50-A6DE-442E-A8FC-7CBFEDE7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421-FA77-4D4A-84BA-EF240403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43A7B-36FF-4C8E-9080-8AD03A9F7E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