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87480"/>
        <c:axId val="71082121"/>
      </c:barChart>
      <c:catAx>
        <c:axId val="62387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82121"/>
        <c:crosses val="autoZero"/>
        <c:auto val="1"/>
        <c:lblAlgn val="ctr"/>
        <c:lblOffset val="100"/>
        <c:noMultiLvlLbl val="0"/>
      </c:catAx>
      <c:valAx>
        <c:axId val="71082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7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6F3-7F94-413E-AE24-2220FB38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E43-0684-4296-89D2-6237879D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AC1-6A55-47E2-9B4B-8D713194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4D9-B929-4709-A567-98E1FF2D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719-3A87-48DA-ABAB-F773B68D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124-9EAD-4A38-9F0D-BEB9550E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D2E-6E7C-4DF9-AA98-073F0136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4E1-C5BE-44BE-99D3-79FE83A3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DF9-20D2-46BC-9DF6-FBA66810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560-F9A9-4D0B-9AF8-75BC7E6F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146-70DB-4207-84BD-96FA9D2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B23-F825-4FA7-BB5B-26E14A41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BAA4E-1056-443A-984C-00AE01B477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