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01315"/>
        <c:axId val="25111640"/>
      </c:barChart>
      <c:catAx>
        <c:axId val="22901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11640"/>
        <c:crosses val="autoZero"/>
        <c:auto val="1"/>
        <c:lblAlgn val="ctr"/>
        <c:lblOffset val="100"/>
        <c:noMultiLvlLbl val="0"/>
      </c:catAx>
      <c:valAx>
        <c:axId val="25111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01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9E1-0EA5-4C79-8EDD-21DCE8D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B90-CD3E-49A4-880C-8282564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629-A93B-46A8-80C7-16D08C0C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D1D-E3D2-4180-91FE-C32B081C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13F-D283-46C7-949D-981AC14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A0A-0EA4-44EA-8DBD-7FDF76C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03D-0AF8-4C1F-A559-BCE5F4BC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2C5-B141-4D74-B41E-1682D548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4DF-4877-4F07-9F2C-3F104C07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615-D1D6-4745-B418-77A905A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C6B-6DC0-450B-8C92-BCAF4C6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501-2263-4633-ACC9-79CAA5F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55C15-0183-40AC-BF86-4BD8F9332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