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11945"/>
        <c:axId val="37549875"/>
      </c:barChart>
      <c:catAx>
        <c:axId val="21911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49875"/>
        <c:crosses val="autoZero"/>
        <c:auto val="1"/>
        <c:lblAlgn val="ctr"/>
        <c:lblOffset val="100"/>
        <c:noMultiLvlLbl val="0"/>
      </c:catAx>
      <c:valAx>
        <c:axId val="37549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11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0CC-B14A-412A-86AA-4BC5958B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43E-D506-4793-9B63-B8F4963F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669-EC4D-4A09-8A3F-13D63C81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D99-6FB6-495C-8BBD-6489FBA8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C5E-714E-4C1C-809F-E5ADC910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3EB-010E-4438-8ECF-3FD12C8E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C34-35B3-48F8-9A3C-2A71A994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384-0CD2-4AEA-8C20-803AB08C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F9CE-3763-4A06-ADAF-EEB34DD4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49A-6D61-43B7-9001-AD3A404B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E94-FC56-4E46-BC3A-87B78A04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135-12F1-4FBC-9347-EE685E83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C2AB1-6CDF-469D-AD37-04BD980295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