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00544"/>
        <c:axId val="5585346"/>
      </c:barChart>
      <c:catAx>
        <c:axId val="45100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346"/>
        <c:crosses val="autoZero"/>
        <c:auto val="1"/>
        <c:lblAlgn val="ctr"/>
        <c:lblOffset val="100"/>
        <c:noMultiLvlLbl val="0"/>
      </c:catAx>
      <c:valAx>
        <c:axId val="5585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0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2CE-A15F-4E1F-9967-58F2155A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507-0E42-4CB4-973B-9645339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61A-EC1A-4CD3-9F22-291F055C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926-C3ED-4D72-9193-0D883DC6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BB6-FAFE-4B50-BCC1-3538DF5B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170-5247-4024-9E8D-06832E10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16F-9CF8-4E6A-8754-C06B8B58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4F1-EE11-47B3-B291-5C3FE6A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234-7ED2-4F18-B5F1-726CF76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8B6-2252-408E-ACF6-204C3E0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05A-8E4E-40DD-832A-3779328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831-2208-47ED-A074-7DA46CF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85120-7E97-4606-960A-E94B5EECD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