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60401"/>
        <c:axId val="98024589"/>
      </c:barChart>
      <c:catAx>
        <c:axId val="91160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24589"/>
        <c:crosses val="autoZero"/>
        <c:auto val="1"/>
        <c:lblAlgn val="ctr"/>
        <c:lblOffset val="100"/>
        <c:noMultiLvlLbl val="0"/>
      </c:catAx>
      <c:valAx>
        <c:axId val="98024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60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660-7F17-4318-84F1-7E5A820F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2BC-A678-4257-B29A-3378042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510-134E-4572-B061-BB53547D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71A-A6C1-48B6-9B20-BFCDD50B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A0D-B511-4836-9B9C-55422B4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E1A-AC2F-449B-8523-F590084A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FDB-501A-42D7-882F-463A9931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EE2-D9B0-4974-AEDF-2E4292CC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FBA-2635-4455-88CA-CE3E4A8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24E-B4D9-4844-8F46-D5D18C5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607-C17A-45A2-9171-326CA2B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997-BB4B-401F-A85E-FE6BA9C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6B637-03E4-4A5C-A984-A15C96C22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