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452919"/>
        <c:axId val="95507953"/>
      </c:barChart>
      <c:catAx>
        <c:axId val="504529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07953"/>
        <c:crosses val="autoZero"/>
        <c:auto val="1"/>
        <c:lblAlgn val="ctr"/>
        <c:lblOffset val="100"/>
        <c:noMultiLvlLbl val="0"/>
      </c:catAx>
      <c:valAx>
        <c:axId val="95507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529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9AB5-9D21-474C-BBB7-A7F6CDD0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47F-13A9-4DC4-AB2D-37AC5227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5C4D-F990-4F41-916D-138AEA9C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796A-9DEB-448D-9BB9-FAEE30DE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DE6-CCB6-437D-9A52-50455C72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609-E55A-4E09-A50B-DD46E4D9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547-8F19-40B4-B7A7-216BF5DD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062E-EC01-49DF-BE9C-CD5F4FA0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FAC-375A-4CD7-8EC2-6DC979EA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06D-7CCA-490E-B933-08AEE179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620C-5B2E-41DE-9C76-641A98A0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B20-83D0-41AC-B625-A2E85BF9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3D81D-E7E7-4E18-A57C-3BF5F8DDD3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