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17837"/>
        <c:axId val="91696047"/>
      </c:barChart>
      <c:catAx>
        <c:axId val="79417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96047"/>
        <c:crosses val="autoZero"/>
        <c:auto val="1"/>
        <c:lblAlgn val="ctr"/>
        <c:lblOffset val="100"/>
        <c:noMultiLvlLbl val="0"/>
      </c:catAx>
      <c:valAx>
        <c:axId val="91696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17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B5E-0270-4F72-AF78-A251A808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BA7-6175-43AA-B9FE-EFD8057D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34A-AABB-4EE1-8227-0F3603FE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98E-D2FE-4533-AC41-5C4C218A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3CC-E63A-4FE0-9E5E-E59021C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3F6-64FD-49F2-988A-25FC0C78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D35-2F41-4050-B9AC-76268B0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F22-4868-4E8E-8279-589953E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6C8-E7B7-4555-A46E-1E6F09C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A17-0BB8-4B04-AEEA-985CDB95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873-93D0-488B-A7B5-2017B754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DF0-79D0-4BF9-8397-D928F752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CCDFA-E91B-4A3E-9D8A-F7AE9FD6B5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