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42211"/>
        <c:axId val="23392126"/>
      </c:barChart>
      <c:catAx>
        <c:axId val="74142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2126"/>
        <c:crosses val="autoZero"/>
        <c:auto val="1"/>
        <c:lblAlgn val="ctr"/>
        <c:lblOffset val="100"/>
        <c:noMultiLvlLbl val="0"/>
      </c:catAx>
      <c:valAx>
        <c:axId val="23392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2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51D-6771-46F0-9D2B-1ADDF74E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B34-212E-4BE1-94CC-1A5AA65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EDB-365B-48DC-B7C8-8129A05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858-FF75-4402-9C1D-8FEF8C1C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8B3-A1BA-4EA3-BBE3-6C9DEF0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47D-C2B3-4922-9ED6-DC1A72C5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9B7-7A19-44D4-8A9E-F4FFCB9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D9C-EECF-4A94-800D-710199C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6FC-39A5-4BE0-8219-B852F5A0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7BB-A8B3-4E51-8423-02751BF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7C9-3C1A-4FA7-8771-D988E480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3F4-205A-425D-BDBF-AB19163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92336-336A-4A0A-9420-0617DF6CBA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