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8860"/>
        <c:axId val="18324492"/>
      </c:barChart>
      <c:catAx>
        <c:axId val="2988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324492"/>
        <c:crosses val="autoZero"/>
        <c:auto val="1"/>
        <c:lblAlgn val="ctr"/>
        <c:lblOffset val="100"/>
        <c:noMultiLvlLbl val="0"/>
      </c:catAx>
      <c:valAx>
        <c:axId val="183244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88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E44B-8355-4455-A21D-723D1C11F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4AF5-55E0-4527-8529-E77655487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5D52-41B2-4F69-8484-B658CDA63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2235-782E-494B-AF0E-2746C6CDB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FAF3-9D66-464F-BE80-DB1F4382E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BCB9-3194-4A4D-8B74-1D86CB3CA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CCF4-A70F-4D2E-B24B-06660B555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4ACB-D5D2-41C7-8D77-9DE5378E1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2D16-53CC-4A0B-9EF8-6F25CA04F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BF69-C04B-4B92-8ABD-A9F580D5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F2F4-7E5E-462D-8434-8A6515E6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9638-CC56-4B74-B295-E126F7DE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85A8AF-1960-48FC-B028-7DF19D9567C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