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21240"/>
        <c:axId val="69310687"/>
      </c:barChart>
      <c:catAx>
        <c:axId val="59121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10687"/>
        <c:crosses val="autoZero"/>
        <c:auto val="1"/>
        <c:lblAlgn val="ctr"/>
        <c:lblOffset val="100"/>
        <c:noMultiLvlLbl val="0"/>
      </c:catAx>
      <c:valAx>
        <c:axId val="69310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21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F22-3943-4ABF-9EAB-91FD01D4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490-3CDE-4D4E-9B77-AADA7DFB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B05-47A5-4FF1-82BC-0FFECBD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9C9-B8F5-45F2-BBD0-C6DEE9F1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DB9-3D87-480A-A302-782A542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702-E3E8-4B53-AE4E-13749CA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676-B908-4502-AD9C-718DE64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EAC-69AF-48CA-9B8A-A98C186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0EA-56E9-4F45-B09D-1B8A857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BE1-A7C6-4945-9456-8357066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746-3BAA-479E-ACF4-074F70C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8AB-1C05-4FB2-A18F-7E8AC30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573BE-3D4A-4467-A52A-FDAFE021E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