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56311"/>
        <c:axId val="95009547"/>
      </c:barChart>
      <c:catAx>
        <c:axId val="14556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09547"/>
        <c:crosses val="autoZero"/>
        <c:auto val="1"/>
        <c:lblAlgn val="ctr"/>
        <c:lblOffset val="100"/>
        <c:noMultiLvlLbl val="0"/>
      </c:catAx>
      <c:valAx>
        <c:axId val="95009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56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29A-1848-48B2-85CB-C9F3B1ED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7DD-2B59-4333-A166-05F0CC5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E80-5A45-4D74-BF11-997905B0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F09-7711-4598-9AA9-2EC446B3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BC0-E9B2-48D3-8609-B2AF8EB8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1C1-0677-4C9A-87FF-5F38822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323-4766-44B6-878B-47625FA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CB1-BC3E-498C-836C-0A93C7B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89A-FED9-4BF7-BBE9-A640AD26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E31-089F-4B1F-A925-2549362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4B9-3AFC-4E9F-AEDA-6D0B976B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765-608E-4248-9799-1629659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3A41E-E5AC-4D22-A933-25FB7FC466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