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8812"/>
        <c:axId val="59880071"/>
      </c:barChart>
      <c:catAx>
        <c:axId val="8848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80071"/>
        <c:crosses val="autoZero"/>
        <c:auto val="1"/>
        <c:lblAlgn val="ctr"/>
        <c:lblOffset val="100"/>
        <c:noMultiLvlLbl val="0"/>
      </c:catAx>
      <c:valAx>
        <c:axId val="59880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8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8C7-7753-4493-B1EB-F4EDA4F2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4D5-D18D-4E64-9662-107AD653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DE4-A730-499C-83F8-D032E1CE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003-A39E-42E3-AC91-9882378B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22B-441A-435E-94EC-399B9CCE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C74-FD48-49EF-9178-9E345407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FD8-F272-42D1-8201-4A249977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261-F30F-4EBD-BAC6-D95F3A7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54D-DBDB-4330-9FD9-0D106D78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0ED-6748-48C3-99A2-41EE1DFA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B39-253D-492F-9F82-DE2FBB90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80B-89FE-4FF9-9AE9-DDA2B33E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694F8-BF2B-4CE0-BF50-2985625A71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