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05807"/>
        <c:axId val="41675985"/>
      </c:barChart>
      <c:catAx>
        <c:axId val="70305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75985"/>
        <c:crosses val="autoZero"/>
        <c:auto val="1"/>
        <c:lblAlgn val="ctr"/>
        <c:lblOffset val="100"/>
        <c:noMultiLvlLbl val="0"/>
      </c:catAx>
      <c:valAx>
        <c:axId val="41675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05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91E-25C9-4D1F-B7C4-8E2B7511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33B-4D60-4307-A1EE-BC63B2FA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93E-EBF4-405D-9170-57BA3506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B0B-F2F3-4C5F-9F93-0406EE39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985-2EE3-421D-A60B-C62CF3D4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992-E254-40AA-B815-0A4B169B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818-5F8C-43B1-A7C3-E777AA6A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3F2-A762-4EB5-AAA0-8F2FE7E6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432-301A-4570-8571-9A1EA760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799-C654-4165-920E-0E1260AE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CD3-00C4-4178-B079-9FA4A2A8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ECF-35BB-43D6-AC55-C8966242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3FC25-2C9E-495F-BB54-8A8B47FB4B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