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55916"/>
        <c:axId val="83728993"/>
      </c:barChart>
      <c:catAx>
        <c:axId val="34255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28993"/>
        <c:crosses val="autoZero"/>
        <c:auto val="1"/>
        <c:lblAlgn val="ctr"/>
        <c:lblOffset val="100"/>
        <c:noMultiLvlLbl val="0"/>
      </c:catAx>
      <c:valAx>
        <c:axId val="83728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55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80E-A002-48A8-9455-3A242EEB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39C-E396-4403-8184-2227C2DC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4CC-5BFF-415C-B436-F1CC57C1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F22-1FB5-454B-AAAC-E179476F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6E6-3F14-42F0-A606-65C72C6B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E5C-DD2C-4F4C-B0DE-39B8684E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59B-B84B-479E-AA89-B8FC8695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19B-5275-4C0E-B5CD-2EB4E7A9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580-C970-45F6-B1E0-D1112708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1A8-8D14-40A7-B600-DCA60742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953-13A0-42EA-B0DD-7DDF8498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834-F05D-4FC9-AB5E-908A58CB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143E1-F313-4FAD-AD54-4717B3C599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