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57003"/>
        <c:axId val="46554806"/>
      </c:barChart>
      <c:catAx>
        <c:axId val="66957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54806"/>
        <c:crosses val="autoZero"/>
        <c:auto val="1"/>
        <c:lblAlgn val="ctr"/>
        <c:lblOffset val="100"/>
        <c:noMultiLvlLbl val="0"/>
      </c:catAx>
      <c:valAx>
        <c:axId val="46554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57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2AF-282D-4856-89F5-EAA543BF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330-21D1-435D-A548-081E00C0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8DF-84D6-412B-A89C-D57DB6B9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1E0-789F-45E1-A197-24C0CAFA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5A9-8C48-478F-AA15-707EF5EB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71C-C9C8-4B91-9698-0BC98F58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EB8-286C-48A7-B94E-CF8167BD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9EA-226F-4AF8-8B27-EEF55161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5C2-6A95-4EFD-9D0E-1C0560CD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E7B-7333-4A54-AE5F-A620DC73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296-C529-4E77-AEB5-87854B1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F4A-DABE-43D2-B410-939738E9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00793-42AC-4975-BAFB-3B57DD7E56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