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61651"/>
        <c:axId val="20994705"/>
      </c:barChart>
      <c:catAx>
        <c:axId val="10761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94705"/>
        <c:crosses val="autoZero"/>
        <c:auto val="1"/>
        <c:lblAlgn val="ctr"/>
        <c:lblOffset val="100"/>
        <c:noMultiLvlLbl val="0"/>
      </c:catAx>
      <c:valAx>
        <c:axId val="20994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61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0F5-2896-41F3-8D35-69EC8E8B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E5D-03E4-4411-B2DF-F8ECDB11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153-9F89-473B-A79B-17006721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E0A-54AC-4C65-8B90-CD11E82F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BED-FDE1-435F-9671-30F6146A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649-AE1D-4FEB-8C17-ADAC9012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FBA-0095-4D71-B10E-9816910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F15-7E71-4F89-A893-23C7FC4C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66D-59FD-4B14-9A47-22279ED3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11C-2D19-48FB-BA89-CBC9227F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A33-ECAE-4E92-9D79-130446B1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4C0-829D-40D1-9974-AC3B31DB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263BA-2ED0-4328-AE52-F33C4137C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