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858293"/>
        <c:axId val="79698550"/>
      </c:barChart>
      <c:catAx>
        <c:axId val="938582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98550"/>
        <c:crosses val="autoZero"/>
        <c:auto val="1"/>
        <c:lblAlgn val="ctr"/>
        <c:lblOffset val="100"/>
        <c:noMultiLvlLbl val="0"/>
      </c:catAx>
      <c:valAx>
        <c:axId val="796985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582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8CC5-E38F-47DE-8081-41FA071A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EB9C-B459-41CF-93F5-FCA80038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BD7F-F386-4A21-8DD1-3A382FEF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CF07-E55B-4F71-9658-5A866672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8015-B875-4E33-9285-5F4510E8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DAA7-28DD-47BA-B850-87ACDFF3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D282-AE1D-45D3-8A84-FE583607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695C-0AC0-4E08-B582-50A0EE7E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FCE5-13DB-4B81-A9C0-06D84238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4C27-8401-46E9-B4F1-2E533D5A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6753-A08D-4F09-AFBB-4928262D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4293-929E-4442-9122-09F48CA2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6DC36-8E87-48D7-8D6C-AD20DD8BEE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