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77161"/>
        <c:axId val="2857832"/>
      </c:barChart>
      <c:catAx>
        <c:axId val="55477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7832"/>
        <c:crosses val="autoZero"/>
        <c:auto val="1"/>
        <c:lblAlgn val="ctr"/>
        <c:lblOffset val="100"/>
        <c:noMultiLvlLbl val="0"/>
      </c:catAx>
      <c:valAx>
        <c:axId val="28578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77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689-6C86-44A4-ACCC-9E294C9C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8D1-1019-4F9F-B78B-0556E9C5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DA9-A123-4E06-8381-B92D6274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1C3-9C17-4D9C-A3ED-FF89168A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65F-C78C-4A15-AE9B-D3E60E83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C95-E1AE-4CA3-B9F1-CA8B1DF9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5E8-578E-4954-B27D-C7CFD037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CF1-6108-4E5A-9186-20D8EF24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B4D-7FD9-4011-A215-10E1F33D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2FD-BD77-4B67-90A4-9BAEA7C9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3B5-DAD9-4460-900C-0D6D595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F37-3A89-44E1-A544-909E84F1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4E1B7-6F9F-4722-A8AE-DC1895E9D0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