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74412"/>
        <c:axId val="87432812"/>
      </c:barChart>
      <c:catAx>
        <c:axId val="523744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32812"/>
        <c:crosses val="autoZero"/>
        <c:auto val="1"/>
        <c:lblAlgn val="ctr"/>
        <c:lblOffset val="100"/>
        <c:noMultiLvlLbl val="0"/>
      </c:catAx>
      <c:valAx>
        <c:axId val="874328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744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B791-9572-46C3-BBF4-31D7CDC3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FC4B-BA67-4B9F-9078-6A581877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5FA7-53FC-4FEE-AFC3-90F3D67D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7319-970F-422B-AB6D-85376643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A7F-6919-48BE-A010-55606B7D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57D6-C176-470A-A2B2-81735F03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1811-3953-443B-9FC4-6E61725A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E06-B147-41EA-9AAF-5CD465A5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C245-CF0E-4759-9348-47C1E850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A85E-5D2C-4FBE-B2BC-6DA5C931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1912-4047-4948-AD9F-5087CF73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814-DE39-4EEE-B856-ED57DF21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DAF1F-AAAE-4369-9C79-29DBAD8F9F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