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401"/>
        <c:axId val="15926106"/>
      </c:barChart>
      <c:catAx>
        <c:axId val="5547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26106"/>
        <c:crosses val="autoZero"/>
        <c:auto val="1"/>
        <c:lblAlgn val="ctr"/>
        <c:lblOffset val="100"/>
        <c:noMultiLvlLbl val="0"/>
      </c:catAx>
      <c:valAx>
        <c:axId val="15926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A2-0288-43A4-8DEB-666152CF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AC7-20F1-4BF7-AE9F-3A4A542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FF0-336B-4012-A9CB-9B2F3351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EF7-839B-4C8C-8737-1DA53ED9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FA7-C207-43EF-ADED-35E65E22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254-7128-4D85-B8E1-E3E04BD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DE2-6041-4466-81FB-3F642AD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243-3C21-435A-BA92-B3A43806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77C-25C0-49ED-BC05-4E08D64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7C3-12A3-4DE7-A3B7-7ECF753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C81-57D2-48E0-B8A4-44BA76BC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654-B6D4-4B9F-B02E-BB70ABC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73AA5-45EA-4AB1-B029-C0945099C4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