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5317"/>
        <c:axId val="24559673"/>
      </c:barChart>
      <c:catAx>
        <c:axId val="67805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9673"/>
        <c:crosses val="autoZero"/>
        <c:auto val="1"/>
        <c:lblAlgn val="ctr"/>
        <c:lblOffset val="100"/>
        <c:noMultiLvlLbl val="0"/>
      </c:catAx>
      <c:valAx>
        <c:axId val="24559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5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AD3-AAE0-4F78-9395-1D894D08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86D-4316-4A5E-94AA-3AF6865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48A-5D67-43FE-B6E1-FE51F28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736-38EF-40D2-9668-D77EC50A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D6E-0B74-4C82-BA93-50AAADDA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A20-414F-4DF1-9332-57C7078D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0CF-A2B7-41CE-9188-88BEF97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5CA-4103-447E-90CE-2AB9C4D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0B6-8DD4-4D06-95B5-0F448266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D90-D1AE-44B6-804D-C82DC8B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81A-C80E-4165-9971-B476F25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D0E-8C6A-4A96-9E41-20E4E82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6A6D-AC6A-45F9-B09F-1E92CE5D7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