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42391"/>
        <c:axId val="93284413"/>
      </c:barChart>
      <c:catAx>
        <c:axId val="77042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84413"/>
        <c:crosses val="autoZero"/>
        <c:auto val="1"/>
        <c:lblAlgn val="ctr"/>
        <c:lblOffset val="100"/>
        <c:noMultiLvlLbl val="0"/>
      </c:catAx>
      <c:valAx>
        <c:axId val="93284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42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FA6-DDA5-4AC3-B526-476F928F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C37-290C-46D4-A589-1DAF3FD4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A46-C8F3-44F3-90CD-39F069FD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C28-6A40-4821-8AB2-516293AD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D76-B852-460A-9367-4699884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E88-C1A9-4B23-A974-459CCB37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BB2-D411-483F-85DD-A8E84F49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B27-CFC8-47C5-B279-1998AE7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59F-07B7-4637-AB78-3933B49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903-8286-4C08-83AF-651FF46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1CF-A132-484E-A151-F632AF31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DEF-D354-408D-9607-183F3F0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50181-79F3-4A24-92D1-263051413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