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502720"/>
        <c:axId val="83821696"/>
      </c:barChart>
      <c:catAx>
        <c:axId val="845027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821696"/>
        <c:crosses val="autoZero"/>
        <c:auto val="1"/>
        <c:lblAlgn val="ctr"/>
        <c:lblOffset val="100"/>
        <c:noMultiLvlLbl val="0"/>
      </c:catAx>
      <c:valAx>
        <c:axId val="838216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5027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91A5-9608-4494-A1A8-F5F3F42E6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2921-D711-4122-A7DF-04B9EF8E5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0FE9-FC63-44A2-A8E3-30F261B21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E5A4-E8A3-45F0-9C5D-3790C3AE2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49E8-B163-4BE6-88B3-B23D7C33B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7884-8D2B-46C7-A0EF-33844F490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1761-AAF5-42CB-AEC1-446E61A4C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8D46-597D-44CC-8617-CD407A7BB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7FE2-2519-4B55-9123-766E5A307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F85E-D02E-48AB-BBA8-E829C6F9F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96D5-A439-4045-9D99-82AE1037A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8653-3415-4B38-B96D-643B36C3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DB1216-FF97-4E53-BC11-D363F3DA13F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