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634247"/>
        <c:axId val="2497880"/>
      </c:barChart>
      <c:catAx>
        <c:axId val="396342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7880"/>
        <c:crosses val="autoZero"/>
        <c:auto val="1"/>
        <c:lblAlgn val="ctr"/>
        <c:lblOffset val="100"/>
        <c:noMultiLvlLbl val="0"/>
      </c:catAx>
      <c:valAx>
        <c:axId val="2497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342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DDA-93AE-4B83-BFBB-EDD2F370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52F-242B-4B72-92A4-1FCA987B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EB8E-1779-4165-B40E-C28CC2E4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96BA-2771-496A-AACB-54A0C598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B91-346D-4699-8496-92A35F1B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886C-1E43-4591-ACBD-7996415D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C46B-B94D-445B-ADD2-B3B30675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446-0253-402E-87B0-D76DCF36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047-9722-4158-A8B4-484DF34B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58D-57ED-4C1B-BB89-F57F8C14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ACF8-8E7A-4600-A751-DF5206ED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77E-E213-4D48-B410-C4657C0B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61BF8-C416-4BB8-A342-A35C41B4F0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