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95825"/>
        <c:axId val="18234382"/>
      </c:barChart>
      <c:catAx>
        <c:axId val="32395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34382"/>
        <c:crosses val="autoZero"/>
        <c:auto val="1"/>
        <c:lblAlgn val="ctr"/>
        <c:lblOffset val="100"/>
        <c:noMultiLvlLbl val="0"/>
      </c:catAx>
      <c:valAx>
        <c:axId val="18234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95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02E-3B47-4936-95D7-2560854E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90B-D8D5-4D4D-85C6-5C3D27A9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26E-D87A-4219-BA4E-D08A2CDF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013-5F49-454F-A62F-C7304165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83C-EFC6-4E32-AB97-EB3D2D11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10F-EE82-4420-9475-E55F3302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C71-B542-4D77-AA68-E87C9F9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356-8563-4C59-B50B-0AE7A686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7F7-0D7D-4AA6-9429-0A62A717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777-7D38-4D0F-AEAF-7E12987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702-CA81-401E-A367-3E2E5951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D8E-947D-42B4-95C5-269CC234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C3C38-943A-44D7-A1F5-88ADA4060E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