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6086302"/>
        <c:axId val="73898805"/>
      </c:barChart>
      <c:catAx>
        <c:axId val="2608630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898805"/>
        <c:crosses val="autoZero"/>
        <c:auto val="1"/>
        <c:lblAlgn val="ctr"/>
        <c:lblOffset val="100"/>
        <c:noMultiLvlLbl val="0"/>
      </c:catAx>
      <c:valAx>
        <c:axId val="7389880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08630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D310-F4E5-4267-B886-8475834FF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3DFC-9FED-49F4-9FB9-CEAD21906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749F-0133-421D-9B73-9E52D8918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D859-626D-4888-ACE3-67F78C82A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02A8-016C-4628-9E57-BB8E7D286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AC2D-238F-4E04-888B-592CF47F1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FD80-0F55-475A-8ACA-278D00B0A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AE65-C193-4EEA-A124-8106B94F9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E308-6D36-4B8C-A36A-8008C9AE3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4ED1-F43D-4001-A873-954BBDEB4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448B-C460-4C0E-B310-C4232104B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433E-8751-40E8-9126-56A521855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31C0A3-DE37-4929-AB86-B030863181A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