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67866"/>
        <c:axId val="93541694"/>
      </c:barChart>
      <c:catAx>
        <c:axId val="84167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41694"/>
        <c:crosses val="autoZero"/>
        <c:auto val="1"/>
        <c:lblAlgn val="ctr"/>
        <c:lblOffset val="100"/>
        <c:noMultiLvlLbl val="0"/>
      </c:catAx>
      <c:valAx>
        <c:axId val="93541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67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3BB-F592-4417-A918-C4B76E5A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6BD-B782-4CF2-8F91-12B2C137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BA8-679A-4F6E-834C-8C92015B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3D7-A4FE-4A2B-9F48-FDBCA11D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37B-9D9B-431F-BB24-A2BE56F1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B33-7ACD-4B12-B12E-DEA7C6FD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4C9-D6B6-4A20-9213-D8873F75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8C7-B0C3-4AEB-8DD8-DE48307F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CF1-BD04-428F-A49B-724F51D3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947-970E-4ED6-805F-37DA06FD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8DB-C502-4461-A7AC-89F53475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802-6CBD-4FC6-8354-A52C5ECF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5FAA8-C6BC-4032-91E1-10CEE306A2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