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13343"/>
        <c:axId val="25397739"/>
      </c:barChart>
      <c:catAx>
        <c:axId val="98513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97739"/>
        <c:crosses val="autoZero"/>
        <c:auto val="1"/>
        <c:lblAlgn val="ctr"/>
        <c:lblOffset val="100"/>
        <c:noMultiLvlLbl val="0"/>
      </c:catAx>
      <c:valAx>
        <c:axId val="25397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13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B22-E410-480F-A981-EB6D411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E3F-CEBA-4EEA-BFD1-6B169B9D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FED-39CC-4CE5-B964-FC29D3CC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EC6-985A-41EA-A9B1-217DD0AE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7FC-D6AC-4694-B3C0-B197FB6D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015-3DC6-46CB-BAA2-76D75F4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76B-C462-4F6A-AE3C-5E5BF333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88C-ABEF-49DE-A8CF-F0049C81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A73-A579-4BC8-8420-5384D895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0C3-FD6F-495A-B774-2397BD7C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2E5-EDB4-4011-8073-38D8D50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922-2F0A-4337-9413-C73A886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212BD-A4B5-43F8-A986-F80F763EC7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