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7228"/>
        <c:axId val="76142247"/>
      </c:barChart>
      <c:catAx>
        <c:axId val="1807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42247"/>
        <c:crosses val="autoZero"/>
        <c:auto val="1"/>
        <c:lblAlgn val="ctr"/>
        <c:lblOffset val="100"/>
        <c:noMultiLvlLbl val="0"/>
      </c:catAx>
      <c:valAx>
        <c:axId val="76142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C52-DE6A-4B04-AA79-99507D94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73B-3ABB-483C-8F52-F456AC4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A66-D491-490E-8E40-6DDC8254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884-20FA-41B8-9BE8-3C0A2845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E3B-EFC1-4930-B0BB-708008A6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209-433B-4F86-90E8-E69331EE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5C2-BB89-481B-B0F2-F1989E3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FF3-A70F-429A-A2F1-D617871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615-872C-4C6C-84DB-1C064A0D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200-7484-43B2-81CC-F758DBD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F4D-DA40-42F2-993F-D809365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F38-7F32-4457-A781-9C56643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D3971-68D6-491D-A9C2-E3234E041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