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50121"/>
        <c:axId val="62182113"/>
      </c:barChart>
      <c:catAx>
        <c:axId val="94350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2113"/>
        <c:crosses val="autoZero"/>
        <c:auto val="1"/>
        <c:lblAlgn val="ctr"/>
        <c:lblOffset val="100"/>
        <c:noMultiLvlLbl val="0"/>
      </c:catAx>
      <c:valAx>
        <c:axId val="62182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50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E33-CD60-47DD-8AA9-438DCE9D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997-01C4-4D0D-828C-BF6A8411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AF3-6D09-4D39-9705-078DED63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621-1E14-43CD-9E27-BCD5738C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E07-466B-4DC1-A22C-6C667B24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660-55F4-49AC-85DF-8B3E298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A3F-98D0-4016-961E-7E8A0DAD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CAD-8384-4454-B17B-5B0BBBB3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381-6985-43EC-8B56-35F1C03A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C14-C01C-47FE-BD15-3DD11607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911-E3AD-4D2C-863D-F719DBFC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830-6DF4-4771-A8D8-3827694A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C4A41-4F15-41FF-8149-7609CC9460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