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13878"/>
        <c:axId val="89002932"/>
      </c:barChart>
      <c:catAx>
        <c:axId val="93213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02932"/>
        <c:crosses val="autoZero"/>
        <c:auto val="1"/>
        <c:lblAlgn val="ctr"/>
        <c:lblOffset val="100"/>
        <c:noMultiLvlLbl val="0"/>
      </c:catAx>
      <c:valAx>
        <c:axId val="89002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3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A95-9635-42F4-A8B1-29DA65BD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01B-CEB6-4034-821A-626288B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688-285B-45B6-8F99-CA58B381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944-003E-4C44-99DF-038C7B1A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561-6860-47BB-B529-14B0228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39F-AEFA-4D3C-865D-CC463F3C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87E-79E5-4F6F-8A84-F3497F8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946-4258-4285-A106-EFC44FA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A22-DEB6-4F1B-97C2-54D89F82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EFE-6778-4897-AC1B-89A217B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626-3757-4D59-9CC8-740A250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6BD-9F6A-43D7-9A3E-C4696B2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D9A3-30D8-42D8-812C-E6FA2BFB0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