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588049"/>
        <c:axId val="49064122"/>
      </c:barChart>
      <c:catAx>
        <c:axId val="755880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64122"/>
        <c:crosses val="autoZero"/>
        <c:auto val="1"/>
        <c:lblAlgn val="ctr"/>
        <c:lblOffset val="100"/>
        <c:noMultiLvlLbl val="0"/>
      </c:catAx>
      <c:valAx>
        <c:axId val="490641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880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FE31-0662-43F5-979A-701D43F6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B658-77C2-4E85-8E6B-51951D0F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270D-267A-4717-8725-DF050F8F6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8798-925A-40FF-878E-F083464F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7F6D-87B5-4D00-97EF-EC7494C8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39C3-6B7C-44A8-8038-80DDEC5B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3812-37FF-4737-880E-60847CC2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F039-06E2-4437-B553-2E7CF6A3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AC4A-597F-46FE-9085-E47778A9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C62A-A646-4A35-A334-7385D348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0DA8-7DED-40C0-9482-AC9EFE9F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903F-9B2A-47FF-968F-AC00F786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936C6-9DB5-42D9-85CC-D90647222B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