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507067"/>
        <c:axId val="36745559"/>
      </c:barChart>
      <c:catAx>
        <c:axId val="475070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45559"/>
        <c:crosses val="autoZero"/>
        <c:auto val="1"/>
        <c:lblAlgn val="ctr"/>
        <c:lblOffset val="100"/>
        <c:noMultiLvlLbl val="0"/>
      </c:catAx>
      <c:valAx>
        <c:axId val="367455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5070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2F9B-F09A-4E0B-B5F0-D601CB2DD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50A7-DFF2-4DDD-8DBD-4FBED31C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1331-362C-4996-8BE4-2BA8EAFD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64A3-42A0-43AF-A3E5-A8A76C1A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A69C-906A-41F0-96EC-2F8F6410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4963-ACE9-47FB-888F-1EF7FA93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3E4D-E994-4F2C-B04D-9B51A256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ABE7-D017-4083-97AF-FA673698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9749-CB9B-4F0C-9A37-79204CFF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C268-5DAB-41AB-B7F8-A2BB8F02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3484-A317-4D69-8040-92B821C1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3481-8D3D-4340-BB60-125C35FD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FA771-10DD-468E-867A-19F4BC19AA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