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90349"/>
        <c:axId val="20128165"/>
      </c:barChart>
      <c:catAx>
        <c:axId val="52390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28165"/>
        <c:crosses val="autoZero"/>
        <c:auto val="1"/>
        <c:lblAlgn val="ctr"/>
        <c:lblOffset val="100"/>
        <c:noMultiLvlLbl val="0"/>
      </c:catAx>
      <c:valAx>
        <c:axId val="20128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0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C5C-802C-45B8-9A0D-72F29099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16D-396D-402B-B32C-92AE725A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FC8-8D7E-4186-A46E-FDA90891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9CF-DD15-4967-91B7-580B5ADB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614-B57A-4367-A0B3-0482B1A1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860-590F-495C-826E-EEE22383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A8F-9EA3-496F-8505-352C11B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FC6-6E6C-42BD-8035-ED3A170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7FC-CEAD-4732-8894-2B3B2EA8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4B1-B4D8-42DF-B492-143BFB86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6B0-C285-437A-AC11-2ACC623E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466-8955-4DCA-8F82-EC2EFC15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03E10-A0B5-4439-B270-40EA509B2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