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32163"/>
        <c:axId val="5697795"/>
      </c:barChart>
      <c:catAx>
        <c:axId val="17032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7795"/>
        <c:crosses val="autoZero"/>
        <c:auto val="1"/>
        <c:lblAlgn val="ctr"/>
        <c:lblOffset val="100"/>
        <c:noMultiLvlLbl val="0"/>
      </c:catAx>
      <c:valAx>
        <c:axId val="5697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32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F65-B89B-41EB-86A5-00897614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04A-1A30-49F4-A877-3DE58255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E11-06C9-46FB-AEC7-90C8C7C2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FFB-802B-4AB1-AB30-AF18F954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17F-4626-49AF-B704-CF602286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126-8976-485A-960A-104F8684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678-ACC2-47D1-9EF5-101F9AFB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A11-4DBA-44E2-A40E-AEA37094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9B9-8411-4365-A767-07A357FD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FB4-3966-4637-8544-0911F39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EE1-1326-4BE5-89BF-B3BFFB8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047-2715-4F48-834D-A9C27013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AC7A3-D83A-4CD2-A83B-799660FBA4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