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61152"/>
        <c:axId val="27631005"/>
      </c:barChart>
      <c:catAx>
        <c:axId val="23761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1005"/>
        <c:crosses val="autoZero"/>
        <c:auto val="1"/>
        <c:lblAlgn val="ctr"/>
        <c:lblOffset val="100"/>
        <c:noMultiLvlLbl val="0"/>
      </c:catAx>
      <c:valAx>
        <c:axId val="27631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1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491-C28C-45F1-AF71-4A56DA57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1E1-22D4-42C9-8CD7-B0E0A66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07A-58F1-4EE2-9896-6277C540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393-7747-4BBD-B137-28AF31F5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64F-CACC-4836-85D5-44F7F690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340-0E61-4608-92F4-405C0F9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EA5-1B86-46BB-B7FB-9FF50AD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0DC-BDBB-4D77-B3C7-9772565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BD0-385E-4B9B-B1E3-A259B0E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66B-1DBF-4659-AE16-EF91CD7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55A-C221-4AB1-BDC2-BB183B6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070-73A5-44AB-BAFB-7AEECE9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2BB3B-5374-4F85-BC03-C4F97051D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