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07884"/>
        <c:axId val="87865158"/>
      </c:barChart>
      <c:catAx>
        <c:axId val="40707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65158"/>
        <c:crosses val="autoZero"/>
        <c:auto val="1"/>
        <c:lblAlgn val="ctr"/>
        <c:lblOffset val="100"/>
        <c:noMultiLvlLbl val="0"/>
      </c:catAx>
      <c:valAx>
        <c:axId val="87865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7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245-9EDE-4BCF-9EF9-036BE7A3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7AF-68DA-4E63-AB08-2AA26D06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914-10D0-43A5-B033-6B4591E7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FB3-AC49-4C44-8E61-C9DCB01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56D-BEC7-4160-82C9-EF9BCCF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3D2-0F2F-46E0-B53B-ECFAE70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6D3-D371-438D-8767-C36D26D2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5B5-1190-489E-A9AA-2C56132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317-C2A0-4075-831B-DE82651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DD4-FCB9-402A-8587-0D05894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64B-C903-4FF3-9BE8-753ECD6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A14-8177-46EF-BE22-35B73929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2BBED-9735-4DDA-8E07-812EB4628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