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20137"/>
        <c:axId val="25583535"/>
      </c:barChart>
      <c:catAx>
        <c:axId val="85320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83535"/>
        <c:crosses val="autoZero"/>
        <c:auto val="1"/>
        <c:lblAlgn val="ctr"/>
        <c:lblOffset val="100"/>
        <c:noMultiLvlLbl val="0"/>
      </c:catAx>
      <c:valAx>
        <c:axId val="25583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20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6A3-59AE-4E9C-BB1E-D157900D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300-E68A-45D2-AAFF-4779E62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6F1-42C6-4B23-BE63-CFF285A6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4D0-0DA3-4936-B5E0-42DF671E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8A4-984B-4809-AEB9-4E80FADD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289-21D0-453D-8769-83A4AF9C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BE3-9819-4B35-A3B0-EC9A3EF8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850-3890-4491-B52B-7C234400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B9E-6495-42AA-856A-85AE1D9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757-9D0B-46F4-96E8-F90E81FC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D5A-E851-479B-A194-0D9DB3C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317-2AF4-43BC-94B8-032A8DFA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B51D1-B583-4DDF-B20C-BFA1025DA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