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64925"/>
        <c:axId val="76296676"/>
      </c:barChart>
      <c:catAx>
        <c:axId val="94964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96676"/>
        <c:crosses val="autoZero"/>
        <c:auto val="1"/>
        <c:lblAlgn val="ctr"/>
        <c:lblOffset val="100"/>
        <c:noMultiLvlLbl val="0"/>
      </c:catAx>
      <c:valAx>
        <c:axId val="76296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64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7DD-04B5-4335-9594-837BA4DD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A10-1C30-49F4-8ACE-DAFB95D0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BC6-E141-467B-9621-41155CA2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F1F-6D63-4B08-A0CB-8063AFD6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D20-E543-4A62-816D-9AF53A71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415-CC84-4B17-9CD0-D1B24C73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C72-B821-427C-BFB0-2F50ECA4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475-8A9C-41A0-BADE-656E61AC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BD2-291C-4613-85E5-1D760E95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9DE-EDE6-47DE-9FE1-43E273E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D4C-AA80-43A1-A7B0-02E2A839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6C4-3AB3-4179-843B-194B4809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41292-9470-4DFD-9A10-49E9161697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