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92835"/>
        <c:axId val="24361933"/>
      </c:barChart>
      <c:catAx>
        <c:axId val="74092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61933"/>
        <c:crosses val="autoZero"/>
        <c:auto val="1"/>
        <c:lblAlgn val="ctr"/>
        <c:lblOffset val="100"/>
        <c:noMultiLvlLbl val="0"/>
      </c:catAx>
      <c:valAx>
        <c:axId val="24361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2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0D5-C3A1-408A-9985-5EB97564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635-DA3C-46C0-9E11-99980806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843-36EC-405B-A8B3-D2660BF7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224-0C85-440C-9951-A5B93013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E41-D866-4180-866E-0FD0438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C26-ADB0-4FA7-BE53-9FFC6595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753-A0EF-424A-98EE-FCAB1E91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682-1894-4084-8DE0-01C38F4A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F14-9BC6-476B-9E37-60795B8B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C59-DE71-4C11-9916-BDE9255D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485-BE11-4F30-898F-B4C31E92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F34-CE0B-444D-A187-D612F33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FB24B-70B4-40BF-86D1-A23EB3449B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