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43097"/>
        <c:axId val="38413398"/>
      </c:barChart>
      <c:catAx>
        <c:axId val="81843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13398"/>
        <c:crosses val="autoZero"/>
        <c:auto val="1"/>
        <c:lblAlgn val="ctr"/>
        <c:lblOffset val="100"/>
        <c:noMultiLvlLbl val="0"/>
      </c:catAx>
      <c:valAx>
        <c:axId val="38413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43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7F7-0175-46A5-AF50-C8FBCC50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1F2-297F-4E4D-8B6E-A1721510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979-76BC-41D3-94A6-B49EE9CA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A3C-7C48-4FCF-8EB3-2E4A6A1A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04B-9A4D-43CD-8EDB-25EB28C6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EA3-FD3E-4F50-A6A1-9BC12E1B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CB8-19F0-4D17-BB57-F7999938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EA1-E225-400B-9516-34ECF6B2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763-3E65-4B3A-8D2A-20DE4EE1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D18-E78D-4C83-B7F1-AA5B9B25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277-7E79-4A3A-8622-42FAB046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C43-46BE-48F4-B8FF-F06C5942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E0144-E1E5-4A7D-9D80-66F65290EA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