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00630"/>
        <c:axId val="54396849"/>
      </c:barChart>
      <c:catAx>
        <c:axId val="72200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96849"/>
        <c:crosses val="autoZero"/>
        <c:auto val="1"/>
        <c:lblAlgn val="ctr"/>
        <c:lblOffset val="100"/>
        <c:noMultiLvlLbl val="0"/>
      </c:catAx>
      <c:valAx>
        <c:axId val="54396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00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591-AD75-4D5D-B5DB-528CB799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3E5-6D05-415C-B11D-EEB92C4C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BF4-6D03-4311-8085-F957B85E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56B-5819-4C1B-B36F-EFB56722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96E-762C-4814-A643-AB3220FA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8601-C54A-429C-AEA2-D001479A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CD5-27FC-4B4E-9DC5-1C60F1AB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963F-C082-498F-B8C9-CDE55FF5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DB0-09E0-4066-A702-CD33D27E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403E-F212-4A49-900F-48060AA2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BAB-6858-4731-AF01-B13AF68E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5C9-7DFB-419B-AEFC-AE785985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C3725-7000-475C-8DF7-57F4FF80AF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