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68594"/>
        <c:axId val="85721835"/>
      </c:barChart>
      <c:catAx>
        <c:axId val="9068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21835"/>
        <c:crosses val="autoZero"/>
        <c:auto val="1"/>
        <c:lblAlgn val="ctr"/>
        <c:lblOffset val="100"/>
        <c:noMultiLvlLbl val="0"/>
      </c:catAx>
      <c:valAx>
        <c:axId val="85721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8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273-6215-4120-8CF7-E3781CA5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9EAC-3AF6-44F6-A788-AABCD6C3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1C5-7DEA-40AE-B873-CE39ED64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A7A-C4B0-4E99-AE35-4BE04498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A9DE-A1D1-4350-8ACA-EB254ECB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6D8-1614-4E67-8BC7-ED930050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699-5036-446E-A764-881881FE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EFDE-B68A-4BFA-A3B5-6623AB96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BB3-567C-4722-8410-DD829CC0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B86-5675-40E1-8071-AD78B83D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C8A-92BF-43FF-8B0A-149E8FF3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B969-E795-48AF-A6BF-E0CF7829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B4ABE-FADE-43B0-A031-85F158BED8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