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10523"/>
        <c:axId val="44174941"/>
      </c:barChart>
      <c:catAx>
        <c:axId val="24310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4941"/>
        <c:crosses val="autoZero"/>
        <c:auto val="1"/>
        <c:lblAlgn val="ctr"/>
        <c:lblOffset val="100"/>
        <c:noMultiLvlLbl val="0"/>
      </c:catAx>
      <c:valAx>
        <c:axId val="44174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10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0E5-4FE9-467B-917C-C79014DC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340-2136-4FBB-860C-0FB3C35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D92-892E-4D0D-8A27-19DA115B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EE8-ED10-404C-9A8D-F7DD0BC9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66A-4770-4E14-98F6-E2862D1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509-9C04-477D-9CE0-2CE26F11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350-999A-4F3D-BABF-0E4E6137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72C-9E8C-48CB-A5B2-2BB23CC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8B4-0A67-4E52-A959-F9BEF3C0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277-E46D-4366-9724-1946732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4E8-6A12-471E-8B84-D4EF59D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493-A104-4F37-9530-51313CB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22B1-DF58-4F97-8CBF-F8AC67012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