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9353"/>
        <c:axId val="90949511"/>
      </c:barChart>
      <c:catAx>
        <c:axId val="3199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49511"/>
        <c:crosses val="autoZero"/>
        <c:auto val="1"/>
        <c:lblAlgn val="ctr"/>
        <c:lblOffset val="100"/>
        <c:noMultiLvlLbl val="0"/>
      </c:catAx>
      <c:valAx>
        <c:axId val="90949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9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919-0436-4AD2-87B2-DFCDF606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27E-34C3-4C18-904F-CE00E684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F04-EBB3-4CD7-AC95-A56B1316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FDC1-46E1-415F-9228-992EAB41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934-1622-40F4-B59D-4CDDCC10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D09A-2DB2-4730-A959-FE8B5F89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EDC9-3F2F-4EB4-9D43-1A81339A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B6B-4952-4CCA-B693-745E8E97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A49-3E73-4717-8021-9CEB5B77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491-9C95-4D1B-A618-2698848E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A8B-96E6-4965-8E25-FD06A732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2883-F1B9-4A01-94BC-753A1234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BDD9D-44BB-4BD0-B4EB-0D0630BA03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