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41489"/>
        <c:axId val="83261760"/>
      </c:barChart>
      <c:catAx>
        <c:axId val="94441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61760"/>
        <c:crosses val="autoZero"/>
        <c:auto val="1"/>
        <c:lblAlgn val="ctr"/>
        <c:lblOffset val="100"/>
        <c:noMultiLvlLbl val="0"/>
      </c:catAx>
      <c:valAx>
        <c:axId val="83261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41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ACA-A99D-4CCA-8A52-1B64BD04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A21-007F-4B90-B29E-51461028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A33-093F-4E83-8DC8-B1CCD3BF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0E5-44DD-4A69-963B-78C38867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067-2DC4-4109-9325-5A9FD397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4D9-E15F-4CF6-AA53-D79481B7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74F-3920-4A89-90F9-54B5F483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DE2-9A12-4C99-B33D-78D159CC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F39-1A8B-4A14-889D-8D553FD8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7C2-2727-4648-A3A6-02C63434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F11-9F46-4752-BE38-46279C7B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806-C3EC-44EB-B8C8-DF5E48A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86630-46ED-4B6C-BCEC-639683D3D0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