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376107"/>
        <c:axId val="71916123"/>
      </c:barChart>
      <c:catAx>
        <c:axId val="283761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916123"/>
        <c:crosses val="autoZero"/>
        <c:auto val="1"/>
        <c:lblAlgn val="ctr"/>
        <c:lblOffset val="100"/>
        <c:noMultiLvlLbl val="0"/>
      </c:catAx>
      <c:valAx>
        <c:axId val="719161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3761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8061-7EEF-4010-B625-8F7D6EF06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4795-DB67-41AA-82B5-9A61E6752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447A-DD7C-46C5-A892-4A09E9785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A187-C3E8-4887-BEAB-989E7F413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8840-F89A-4184-AE28-9C648858B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72CB-07EF-4029-A563-98D123D48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E067-75E3-4692-B17C-EB2E55463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111F-BCC9-4824-A00E-03F85078D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8157-D535-4858-96FD-F013D521C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8E0C-6DD4-4E38-AE11-E0DDB927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0AB2-CB55-4FC0-B3E1-3B3B11EF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6BBE-7A56-4FDF-A929-D48F8010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0FED14-B8B3-4600-8BC4-9EB6F5D2F78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